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377-2DAC-4EA9-9C84-6F519B37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F3A-A95E-4CEE-B441-C68B9D3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9CB-8E2D-4D7C-A30A-62DD9E2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D0-D3FC-49FB-959B-9F8DBAB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E7E-F297-4680-970A-7FCA0D43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91D-117D-4472-824B-1DC480B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C27-1FB9-4D07-A22A-C052661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EAE-4F42-44CC-B975-4561249D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331-0D71-44D2-8076-1FAB524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0E4-3B59-4E78-B985-5948D2E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D25-78A3-4D07-A8D3-338A02F3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804-6394-4C7C-98F2-5563DBF9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34CDD2AD-D217-4FA5-B0E5-2720C8CB1558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alue of the array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a[3] = { 1, 2, 3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\na[0] &lt;- 4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a[0]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 (i=0; i&lt;3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%d] &lt;- "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scanf( "%d", &amp;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rray name is used alone, its value is the address of the array (a pointer to its add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 meaning if used in this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572000" cy="647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rogram, the array addresses (i.e., the values of the array names), are passed to the function inc_array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not conflict with the rule that “parameters are passed by valu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inc_array(int a[ ], int 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size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i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inc_array(int a[ ],int siz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test[3]={1,2,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y[4]={1,2,3,4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c_array(test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3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test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c_array(ary,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4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ary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 -- S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2120" y="1149480"/>
            <a:ext cx="4432320" cy="6248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mysort(int a[ ],int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i,j,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(i=0; i&lt;size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(j=i; j&gt;0; j-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(a[ j ] &lt; a[ j-1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  /* Change the order of a[ j ] and a[ j-1]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=a[ j ];a[ j ]=a[ j-1]; a[j-1]=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0480" y="1149480"/>
            <a:ext cx="4432320" cy="6248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  <a:ea typeface="宋体"/>
              </a:rPr>
              <a:t>i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nt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tab[10] = {3,6,3,5,9,2,4,5,6,0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(i=0;i&lt;10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%d ",tab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mysort(tab,1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(i=0;i&lt;10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%d ",tab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dec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ypename variablename[siz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name is an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name is any legal variab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is a number the compiler can figur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array of ints with subscripts ranging from 0 to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0*sizeof(int) bytes of memory reserved for this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=10; x=a[2]; a[3]=a[2]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&amp;a[3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030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6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665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7784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348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956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73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259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4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Constants to Define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define arrays using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define  MONTH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rray [MONTHS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ANSI C, you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“%d”, 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NU C, the variable length array i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SI C, the handling of variable length array is more compli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-Bounds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unlike many languages, does NOT check array bounds subscripts du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  (some C compilers will check liter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 (bounds are never check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ccess off the ends of any array, it will calculate the address it expects the data to be at, and then attempts to use it any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get “somethi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get a memory exception (segmentation fault, bus error, core dump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programmer’s responsibility to ensure that their programs are correctly written and debugg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have some advantages but it does give you all the rope you need to hang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of arrays can be done by a comma separated list following its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 [4] = { 100, 200, 300, 400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quival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 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0]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1] = 2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2] = 3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3] = 4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let the compiler figure out the array size for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[] = { 100, 200, 300, 400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expenses[12]={10.3, 9, 7.5, 4.3, 10.5, 7.5, 7.5, 8, 9.9, 10.2, 11.5, 7.8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count,mon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month=0, total=0.0; month &lt; 12; month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otal+=expenses[month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count=0; count &lt; 12; count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Month %d = %.2f K$\n", count+1, expenses[count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Total = %.2f K$,   Average = %.2f K$\n", total, total/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in C can have virtually as many dimensions as you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is accomplished by adding additional subscripts when it is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 [4] [3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two dimensional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rray o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m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562720"/>
            <a:ext cx="91440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63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6005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408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0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00408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itializ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[4]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[4] [3] = { {1, 2, 3} , { 4, 5, 6} , {7, 8, 9} , {10, 11, 12}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n be don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[4] [3] = { 1, 2, 3, 4, 5, 6, 7, 8, 9, 10, 11, 12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0]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1]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2]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[0]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[2] =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296640" cy="670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andom1[8]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a = 0; a &lt; 8; a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b = 0; b &lt; 8; b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andom1[a][b] = rand()%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a = 0; a &lt; 8; a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b = 0; b &lt; 8; b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c " , random1[a][b] ? 'x' : 'o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10-06T02:49:32Z</dcterms:modified>
  <cp:revision>1561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